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E962A-C423-49D6-806B-5DB53F6E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BC0B-8E18-491F-B670-36E93A32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5E5A-74F1-4957-9A11-9AF34987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CF2E-BAC1-4AD9-9D61-E8A571F7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67BF-4D58-49F1-A6F3-D484A13C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34DC-617F-4539-8374-9CB48223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C6C4-98C7-4683-92CC-4356BA4D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3285-608F-4E50-B02E-CAAD40B4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A626-2EF1-4F41-99E2-9CD60330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38BC-6D1D-4242-ABBE-9B005850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34F5-D285-4F32-B1CF-8DAAD081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05B9-D929-43FA-88FC-4297FD66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F466-81F0-4C39-A3BE-D34A9B93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A6EC-E3F0-4F06-8005-5613FA7A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6799-D1AF-4D20-9C71-502CFB99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FBDE-DF5F-413F-849E-E66EB982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12E2-A1A1-4834-8696-B8D2ACCD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B728-ECA8-42CA-872B-A2B9B6FE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1CAE-404E-474F-ADB9-031ABD1D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0A5C-12FE-4E1C-BC03-D133614E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FE5F-BDBB-4F61-9845-B5CB2BD5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196E-7721-4610-8BC2-B5D76183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ACBA-8E47-49FA-8CCE-6D175C5A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AD5B3-5E54-42B0-9234-3F4AA0C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9828-E61D-42A1-8C41-F7FF57E24CA5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97EA-FA86-4296-A56D-B701D38FD2A4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t.wikipedia.org/wiki/Democracia" TargetMode="External"/><Relationship Id="rId3" Type="http://schemas.openxmlformats.org/officeDocument/2006/relationships/hyperlink" Target="http://pt.wikipedia.org/wiki/Parlamento" TargetMode="External"/><Relationship Id="rId4" Type="http://schemas.openxmlformats.org/officeDocument/2006/relationships/hyperlink" Target="http://pt.wikipedia.org/wiki/Commonwealth" TargetMode="External"/><Relationship Id="rId5" Type="http://schemas.openxmlformats.org/officeDocument/2006/relationships/hyperlink" Target="http://pt.wikipedia.org/wiki/Monarca_brit&#226;nico" TargetMode="External"/><Relationship Id="rId6" Type="http://schemas.openxmlformats.org/officeDocument/2006/relationships/hyperlink" Target="http://pt.wikipedia.org/wiki/Chefe_de_estado" TargetMode="External"/><Relationship Id="rId7" Type="http://schemas.openxmlformats.org/officeDocument/2006/relationships/hyperlink" Target="http://pt.wikipedia.org/wiki/Poder_executivo" TargetMode="External"/><Relationship Id="rId8" Type="http://schemas.openxmlformats.org/officeDocument/2006/relationships/hyperlink" Target="http://pt.wikipedia.org/wiki/Gabinete" TargetMode="External"/><Relationship Id="rId9" Type="http://schemas.openxmlformats.org/officeDocument/2006/relationships/hyperlink" Target="http://pt.wikipedia.org/wiki/Premier" TargetMode="External"/><Relationship Id="rId10" Type="http://schemas.openxmlformats.org/officeDocument/2006/relationships/hyperlink" Target="http://pt.wikipedia.org/wiki/Chefe_de_governo" TargetMode="External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p1.blogger.com/__1KrmgOe7SA/RnHzOoMcqCI/AAAAAAAAAFM/7rnXknWVdoo/s1600-h/coioiisaaaa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pt.wikipedia.org/wiki/Agricultura" TargetMode="External"/><Relationship Id="rId4" Type="http://schemas.openxmlformats.org/officeDocument/2006/relationships/hyperlink" Target="http://pt.wikipedia.org/wiki/Turismo" TargetMode="External"/><Relationship Id="rId5" Type="http://schemas.openxmlformats.org/officeDocument/2006/relationships/hyperlink" Target="http://pt.wikipedia.org/wiki/Mergulho" TargetMode="External"/><Relationship Id="rId6" Type="http://schemas.openxmlformats.org/officeDocument/2006/relationships/hyperlink" Target="http://pt.wikipedia.org/wiki/A&#231;&#250;car" TargetMode="External"/><Relationship Id="rId7" Type="http://schemas.openxmlformats.org/officeDocument/2006/relationships/hyperlink" Target="http://pt.wikipedia.org/wiki/Banana" TargetMode="External"/><Relationship Id="rId8" Type="http://schemas.openxmlformats.org/officeDocument/2006/relationships/hyperlink" Target="http://pt.wikipedia.org/wiki/Citrino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L&#237;ngua" TargetMode="External"/><Relationship Id="rId2" Type="http://schemas.openxmlformats.org/officeDocument/2006/relationships/hyperlink" Target="http://pt.wikipedia.org/wiki/L&#237;ngua_inglesa" TargetMode="External"/><Relationship Id="rId3" Type="http://schemas.openxmlformats.org/officeDocument/2006/relationships/hyperlink" Target="http://pt.wikipedia.org/wiki/L&#237;ngua_espanhola" TargetMode="External"/><Relationship Id="rId4" Type="http://schemas.openxmlformats.org/officeDocument/2006/relationships/hyperlink" Target="http://pt.wikipedia.org/wiki/Reino_Unido" TargetMode="External"/><Relationship Id="rId5" Type="http://schemas.openxmlformats.org/officeDocument/2006/relationships/hyperlink" Target="http://pt.wikipedia.org/wiki/M&#233;xico" TargetMode="External"/><Relationship Id="rId6" Type="http://schemas.openxmlformats.org/officeDocument/2006/relationships/hyperlink" Target="http://pt.wikipedia.org/wiki/Catolicismo" TargetMode="External"/><Relationship Id="rId7" Type="http://schemas.openxmlformats.org/officeDocument/2006/relationships/hyperlink" Target="http://pt.wikipedia.org/wiki/B&#237;blia" TargetMode="External"/><Relationship Id="rId8" Type="http://schemas.openxmlformats.org/officeDocument/2006/relationships/hyperlink" Target="http://pt.wikipedia.org/wiki/Religi&#227;o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t.wikipedia.org/wiki/Montanhas_Maia" TargetMode="External"/><Relationship Id="rId2" Type="http://schemas.openxmlformats.org/officeDocument/2006/relationships/hyperlink" Target="http://pt.wikipedia.org/wiki/Grande_Barreira_de_Coral" TargetMode="External"/><Relationship Id="rId3" Type="http://schemas.openxmlformats.org/officeDocument/2006/relationships/hyperlink" Target="http://pt.wikipedia.org/wiki/Clima" TargetMode="External"/><Relationship Id="rId4" Type="http://schemas.openxmlformats.org/officeDocument/2006/relationships/hyperlink" Target="http://pt.wikipedia.org/wiki/Tropical" TargetMode="External"/><Relationship Id="rId5" Type="http://schemas.openxmlformats.org/officeDocument/2006/relationships/hyperlink" Target="http://pt.wikipedia.org/wiki/Ciclone_tropical" TargetMode="External"/><Relationship Id="rId6" Type="http://schemas.openxmlformats.org/officeDocument/2006/relationships/hyperlink" Target="http://pt.wikipedia.org/wiki/Inunda&#231;&#227;o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t.wikipedia.org/wiki/Povo_maia" TargetMode="External"/><Relationship Id="rId2" Type="http://schemas.openxmlformats.org/officeDocument/2006/relationships/hyperlink" Target="http://pt.wikipedia.org/wiki/Europa" TargetMode="External"/><Relationship Id="rId3" Type="http://schemas.openxmlformats.org/officeDocument/2006/relationships/hyperlink" Target="http://pt.wikipedia.org/wiki/Mesti&#231;o" TargetMode="External"/><Relationship Id="rId4" Type="http://schemas.openxmlformats.org/officeDocument/2006/relationships/hyperlink" Target="http://pt.wikipedia.org/wiki/&#193;frica" TargetMode="External"/><Relationship Id="rId5" Type="http://schemas.openxmlformats.org/officeDocument/2006/relationships/hyperlink" Target="http://pt.wikipedia.org/wiki/Crioulo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Comic Sans MS"/>
              </a:rPr>
              <a:t>Polític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504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518472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435640" y="1041840"/>
            <a:ext cx="334800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Belize é uma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2"/>
              </a:rPr>
              <a:t>democracia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3"/>
              </a:rPr>
              <a:t>parlamentar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e membro da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4"/>
              </a:rPr>
              <a:t>Commonwealth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. O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5"/>
              </a:rPr>
              <a:t>monarca britânico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é o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6"/>
              </a:rPr>
              <a:t>chefe de estado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e é representado no país por um governador-geral que deve ser belizenho. O principal órgão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7"/>
              </a:rPr>
              <a:t>executivo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do governo é o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8"/>
              </a:rPr>
              <a:t>gabinete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, liderado por um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9"/>
              </a:rPr>
              <a:t>premier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que é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10"/>
              </a:rPr>
              <a:t>chefe de governo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. Os ministros do gabinete são membros do partido político com maioria no parlamento e geralmente mantêm os cargos eleitos dentro dele concorrentemente com suas posições no gabine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rabalho de Geograf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lunos: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Ana Paula,Geovana e Leonardo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rofessora: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Marlen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97000"/>
            <a:ext cx="4105440" cy="4753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Econom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40360" y="1341360"/>
            <a:ext cx="3311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A pequena e essencialmente privada economia do Belize baseia-se principalmente na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3"/>
              </a:rPr>
              <a:t>agricultur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, na indústria de base agrária e no merchandising, com o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4"/>
              </a:rPr>
              <a:t>turismo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(em especial as áreas ligadas ao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5"/>
              </a:rPr>
              <a:t>mergulho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) e a construção crescendo em relevância econômica nos últimos anos. O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6"/>
              </a:rPr>
              <a:t>açúcar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é o produto agrário mais importante e é responsável por quase metade das exportações, enquanto que a indústria da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7"/>
              </a:rPr>
              <a:t>banan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é o maior empregador do país. A produção de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8"/>
              </a:rPr>
              <a:t>citrinos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tem-se constituído numa indústria importante ao longo da estrada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Comic Sans MS"/>
              </a:rPr>
              <a:t>Cul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43280" y="1557360"/>
            <a:ext cx="4284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No Belize falam-se as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1"/>
              </a:rPr>
              <a:t>língua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2"/>
              </a:rPr>
              <a:t>ingles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 e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3"/>
              </a:rPr>
              <a:t>espanhol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O país já foi uma colônia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4"/>
              </a:rPr>
              <a:t>britânic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, por isso fala inglês com acento britânico.Belize localiza-se logo ao sul do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5"/>
              </a:rPr>
              <a:t>México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, recebendo influências culturais daquele paí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O Belize é um país predominantemente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6"/>
              </a:rPr>
              <a:t>católico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, muitas escolas trazem nome de santos ou referências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7"/>
              </a:rPr>
              <a:t>bíblica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 e a educação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8"/>
              </a:rPr>
              <a:t>religios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 faz parte da grade curricul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68360" y="1413000"/>
            <a:ext cx="3889440" cy="460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Geograf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176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1600" spc="-1" strike="noStrike">
                <a:solidFill>
                  <a:srgbClr val="ffffff"/>
                </a:solidFill>
                <a:latin typeface="Century Gothic"/>
              </a:rPr>
              <a:t>O norte de Belize consiste principalmente de planícies costeiras planas e pantanosas, densamente florestadas em alguns lugares. Para o sul se encontra a corrente montanhosa baixa das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1"/>
              </a:rPr>
              <a:t>Montanhas Maia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. Belize é o lar da barreira de coral mais longa do hemisfério ocidental e a segunda mais longa no mundo depois da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2"/>
              </a:rPr>
              <a:t>Grande Barreira de Coral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. O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3"/>
              </a:rPr>
              <a:t>clima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 local é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4"/>
              </a:rPr>
              <a:t>tropical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 e normalmente muito quente e úmido. A temporada chuvosa dura de maio a novembro, durante a qual perigos naturais como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5"/>
              </a:rPr>
              <a:t>furacõ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 e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6"/>
              </a:rPr>
              <a:t>inundaçõ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 são comun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403200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Populaçã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64000" y="1341360"/>
            <a:ext cx="3322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A população do Belize é composta em sua maior parte por pessoas de ascendência multirracial. Cerca de metade da população de Belize é de ascendência mista,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1"/>
              </a:rPr>
              <a:t>mai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e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2"/>
              </a:rPr>
              <a:t>europei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3"/>
              </a:rPr>
              <a:t>mestiços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), 25% são de ascendência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4"/>
              </a:rPr>
              <a:t>african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e afro-europeia (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5"/>
              </a:rPr>
              <a:t>crioul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), cerca de 10% são maias e cerca de 6% são afro-ameríndios (Garifuna). O restante inclui grupos de origem europeia, indiana, chinesa, norte-americana e do médio oriente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24000" y="1268280"/>
            <a:ext cx="51847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Comic Sans MS"/>
              </a:rPr>
              <a:t>Turism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537080" cy="3745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932360" y="2133720"/>
            <a:ext cx="36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elize tem um ecossistema marinho privilegiado, composto de manguezais, atóis, bancos de areia e uma barreira de corais que oferece aos mergulhadores um cenário maravilhoso.Tem uma população aproximada de 200 mil pessoas, com uma harmoniosa mistura de raças e de língu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Comic Sans MS"/>
              </a:rPr>
              <a:t>Slid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Pais: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lize </a:t>
            </a:r>
            <a:br>
              <a:rPr sz="24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Capital: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lmopa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                       Moeda: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ólar de Belize (BLZ)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              Língua oficial: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nglê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Monotype Corsiva"/>
              </a:rPr>
              <a:t>Fim........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22:13:35Z</dcterms:created>
  <dc:creator>Tio</dc:creator>
  <dc:description/>
  <dc:language>en-US</dc:language>
  <cp:lastModifiedBy>administradorr</cp:lastModifiedBy>
  <dcterms:modified xsi:type="dcterms:W3CDTF">2010-09-20T20:56:04Z</dcterms:modified>
  <cp:revision>2</cp:revision>
  <dc:subject/>
  <dc:title>Política</dc:title>
</cp:coreProperties>
</file>